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D5A-47A1-4F13-A759-0787D3BF6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ending an RTS [request to send] the node waits between a random period 0 and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R lost most of the packets due to 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a messsage from I to d. then j is in F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ice of the node from the viable candidate set is made based on the highest r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D and DSR do not perform well unde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487-8DDB-403A-AE04-D20A724A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12A-9A8F-4605-AA5F-682854AF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0A3-3E75-472D-8FC5-AEC33A39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84F-35CF-4D54-92EF-38A9FEF7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3A26-AD9A-4FF7-AA20-EBAA0C9E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74B0-F8BB-450D-87AA-53D0F31E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216B-9F97-4646-A57A-E18E835A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6520-BB50-45DD-B2E2-64815F3F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D37A-1907-48C3-A5CC-E2ABB06B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69FC-D580-4D5F-A79D-1DA821C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EF91-9A67-4850-A4E1-FFE770A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3FD-0E60-4F3E-AEF4-BBF9D895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98E0-8577-43E2-88B1-64015A2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E926-D65A-4CA1-841A-BDBF2E5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4B75-D5C5-45B7-B29C-D942267C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0A1E-0A79-4D3D-8563-9DF041B7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64C5-B7E9-474A-872F-4D92BBCA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B8B-B32E-4D6F-8B2E-06D173C3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C4E-3F70-4A7A-97BE-9726547E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C45-DD70-4391-8740-FDF154BB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3E0-6A0D-401C-B345-8B39855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C58-B592-4D61-8D3B-32969FB5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5B1-7BD9-4C67-BC66-0D503C0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FB9-4669-4D64-947D-291CD3C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05F-DE8E-4B84-9D86-E33F9F3B8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541C-3680-44AF-9191-3A388B4D4D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and SPEED 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Octav Chi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Location-Address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less transpor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is based on geograph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Geographic forward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dy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 the node with the shortest geographic distance to the packet’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very step the packet gets closer to the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really good for high densit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FS policy is generally used in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poorly for real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oth deadline and distance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s priority based on the requeste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gher velocity denotes highe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(2)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la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monotonic velocity (S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monotonic velocity (D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(D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AC –layer prioritiz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municating multiple host compete for the shared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802.11b all messages have the same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force packet prioritization MAC protocols should provide distributed prioritization on packets from different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changed tw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you can wait after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S = BASE_DIFS *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off increas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=CW*(2 + (PRIORITY-1)/MAX_PRIOR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xperi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Source Routing (D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ly designed for ID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based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 – fixed priority based on their e2e 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Overall Miss Ratio of GF/DSR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Impact of scheduling on deadline misses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tate of the ar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few real-time algorithms exist for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based on sensor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ealtime System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garding the immediat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uniform speed delivery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is this uniform speed guaranteed globally or pie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why would the application want something like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C Lay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load-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beacon exchang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stim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ess nondeterministic geographic forwarding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feedback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re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mi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MulticastSend(position,radius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all nodes in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AnyCastSend(position,radius,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a message to at least one node inside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Send(Global_ID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the specified ID (id is given by its geographic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Receiv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time constr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EED aims at providing a uniform packet delivery speed across the sensor network, so that the end-to-end delay of a packet is proportional to the distance between the source and destination. With this service, real-time applications can estimate end-to-end delay before making admission decisions. Delay differentiation for different classes of packets is left as future wor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if the velocity is imposed piece wise how can we give end-to end guarant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By distance we mean Euclidian distance or the Euclidian distance of the p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beacon exchange scheme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ally broadcasts a beacon to neighbors to exchange loc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reduce traffic we can piggyback th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enhanc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tising state changes may reduce number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demand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 est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pressure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To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scarce bandwidth cannot use probe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s measured at the sender as the difference between when the packet was queued and its ACK and the processing time on the recei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s track of multiple data points to compute the current delay using (EWM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avg = intervalavg + w * er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is the refresh time sample from this pac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 = I - intervalav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is the smoothing cons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 estimation beacon is used to communicate to other neighbors the estimated de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 to make a set of neighboring nodes react to changes in traffic patters [avoid congest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GF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set of nod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ing candidat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d(i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ext = d(next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y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7657" t="0" r="19173" b="0"/>
          <a:stretch/>
        </p:blipFill>
        <p:spPr>
          <a:xfrm>
            <a:off x="5638680" y="4425840"/>
            <a:ext cx="3505320" cy="24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0"/>
                <a:ext cx="2733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200400"/>
                <a:ext cx="4267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2362320"/>
                <a:ext cx="2819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28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5105520"/>
                <a:ext cx="3021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pee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pDel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FSi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Viable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idate=choose(Viable(FSi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candi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 nodes to support Ssetpoint downstream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 if a random chosen between (0,1)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than th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pressure beacon up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057400"/>
                <a:ext cx="4419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abl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po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layer may provide Q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ce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s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t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generates congestion hot-sp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d-to-end communication time depends on single-hop delay and the distance it has to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3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Bound =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nd-to-end Euclidian distance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peed maintained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ssages have the same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really mean we can enforce a dead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single hop speed above a desired S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etpoint is a network wide parameter that tunes how harsh the realtime requiremen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8625" t="0" r="0" b="0"/>
          <a:stretch/>
        </p:blipFill>
        <p:spPr>
          <a:xfrm>
            <a:off x="1143000" y="2286000"/>
            <a:ext cx="67816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Back pressure rerout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routing due to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ested area is detected and the probability of sending to that node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reinforcement should refer to a geographic area rather than a no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10080" y="4673520"/>
            <a:ext cx="3733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Void avoidanc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s occur if the density is not high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voids similarly to hotspots by applying backbon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ackets may be dropped when trying to avoid a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4875120"/>
            <a:ext cx="41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Last mile process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close to the destin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2E Miss Ratio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etpoint = 1k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2e deadline = 2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rotocol Evalu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Improving 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ossible  Improve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application to specify different sp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speed and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MAC layer to support priority sending messages with different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cheduling policy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messages dropp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integration with the physic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patte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ors coordinate with one another [usually by defining a group] in order to aggrega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volves a small number of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-base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data from the local group to the base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multiple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stions?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ontribution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gh level architecture for large wireless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in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Monotonic Scheduling (V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icy for scheduling packets in a sens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PIs for micro-sens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he number of packets meeting their e2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well to large number of nodes and 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minimum communication over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Stack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943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ry/Event Service 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{attribute list, area, time constraints, querier locatio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 {event, area, quer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the results will be send back to the que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ochipara</cp:lastModifiedBy>
  <cp:lastPrinted>1904-01-01T00:00:00Z</cp:lastPrinted>
  <dcterms:modified xsi:type="dcterms:W3CDTF">2003-09-12T21:53:18Z</dcterms:modified>
  <cp:revision>123</cp:revision>
  <dc:subject/>
  <dc:title>PowerPoint Presentation</dc:title>
</cp:coreProperties>
</file>